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C7D3-CCB0-49C3-BEBA-CBE13EAE6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AA3A-B1E3-4FC8-8377-C18B66797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BD28-B9D3-40B0-AE5D-BF67C2213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8DFF-D58D-47C8-BAF8-3F0E83F50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2D37-700C-4D99-A25A-AEE132829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AD7D-14CD-4716-8A45-20E91206B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A8A2-AC96-45D3-8C0B-73EFD27EF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1375-0802-4FDB-87B0-A97CD85C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AA9-397F-4002-B891-97F3B32B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7B4F-915E-4A41-805E-4124DEDB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AB38-5A6B-447C-8FBF-2A262428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88A-19AC-446D-87C6-2B95446B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CF40-DCA4-4FB5-A2FC-C6D84D62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B0B6-9851-466D-8879-2125EAC5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A068-DB54-4ABA-93B5-5C1A5922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84C1-DC9B-4098-A167-412A0395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6BD3-F5A2-4FBE-980A-130CEFC5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4EC2-1EAA-4D9A-A9C9-EAB612E5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A392-C7C7-4D72-928F-9753F39A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6C0-FAB2-4E2F-9277-9F864C0A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C0BA-5CB4-40CF-BF75-B408CE30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E735-96D5-4159-9D6E-98D54077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810B-B651-41A8-8E10-1E337264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9E75-4AFB-4A20-B9B4-B70F47C8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8676-4316-4DC4-BA20-88D29005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92BC0-3FE6-44EE-98F9-2C79CA5F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B1EE-9EC9-4DD6-9A03-C12AF3B9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F4C1-6041-4727-927D-57A6D3D2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E4C08-81F6-4EB6-8D42-1B19C754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96709-7C23-4C59-B9CF-A7451C06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2713-D2ED-49FE-A844-A685CDC4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9B82A-3DCA-4F74-85A2-A4146B10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09998-09A6-4DF8-BF8B-55E064FE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DDFD-8969-498A-AD72-2E5D1E42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B918B-E2E1-409C-9FE1-A6EB1061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117E-F165-4384-9C01-9D7DDA15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BA0B6-63EC-4B2E-8F4C-D004B640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E9D88-C747-4369-AABC-29F22374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C82D4-3050-48D0-A78E-48EDD041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90A42-F91C-4ABD-BB6A-E7FB325E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6A133-2DAF-4559-AE34-01C1A6A4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5ED-7FDC-4CE3-A011-37E1001A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62CC4-D04E-4628-AC2E-D85B0841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E1C51-276D-4AF6-9565-2B91B405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D3A1-E1FB-4AFA-8036-F9F92C1B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422CC-7BCB-4659-A167-EC58E3CB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A8F89-8C16-4D7B-BEA0-65818A2E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A165C-94CA-43A9-BE18-68C011BC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24393-408D-459B-8C3D-D64996D1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FB8E4-BC42-4DF0-9BFB-71DF70B0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BC6FF-74C3-4FDD-8C2E-62F42E84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D2C34-6EA5-486C-8AAA-557A9AD5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363-DA37-40A6-9FC9-0913A706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7250A-2F51-42F3-91F8-3E0DB794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BDD9D-42DB-40F1-A363-F91FDD93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1AD2F-E88C-4F2F-8637-3EB6CF66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71816-6C0B-4204-8327-634A6482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9BCA4-DCC1-4612-B10D-6C2E8616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6C62F-47F4-46DD-BEED-C9DB9E3D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FCF7A-0498-45CC-A7CD-60EED1BE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1EA96-B5AA-45C8-B95B-8E786CB4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752DC-A59E-425F-9DE1-F62A073B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0FE84-8FB1-47FA-8AC1-CF81C1C1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157-6295-4339-9189-ECBA8E88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DB3F4-134E-439B-9626-B46D30A6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5EE22-A05D-40BF-8F45-EBF95A78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C06F8-3682-443C-817E-3B715130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6FB51-5688-4B95-BAE7-62AC8F2F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42C3A-BCFE-42B7-9BFE-07478662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11038-9B4D-4A35-B2A3-C27A7566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A5941-F142-46D6-8351-FF1A55BB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C28DD-5634-4A21-8B43-E77B8682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B9B73-2F8A-42C7-A5BC-98BA9ED3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5CD17-EA74-43EF-B8C7-9F6D9D3E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7F2-700F-4EC1-9594-2FDA9786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4E552-F072-4976-A5FC-0D982B23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294D3-C564-4711-9954-76FFFD0E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DDB27-3BF7-481D-B79A-1F23782D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F2967-545C-4A50-8AF3-8B879459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B005C-4C52-4123-A944-ADADAE4E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5AF92-303E-4499-81DB-02F22F09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22095-5AC3-49A1-9ADA-EBC870DA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1E8EB-796D-4EA6-97E4-59B3A5C8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9B688-971D-4212-9CE2-E71E2597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B05CE-9305-477E-9A1B-B658FE12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67C-9CD8-432D-BCB7-46C353BB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D10A6-2419-4964-9ED7-82C85DB8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CD809-889E-40C2-BCE2-30AD4A9F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6A635-45BE-4731-A08D-270B555F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AD432-8B13-437D-8ED9-09E5CAB0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18F25-DB52-4514-83B7-1B0DAB42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2ECE-ADF7-4A07-8B21-65027B17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7AFA-2519-4ACF-B80B-5AD7B434EA4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D03A-7762-4C53-A473-FB9BED027E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C1AD-1C50-43AF-BB87-1F4F462A8C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2073-1818-457F-A86C-36F5EC563C9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61F2-60C6-4587-881C-91B06B0743C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3608-A5A9-4C19-A764-5774CE5D01D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F3E2-64ED-4C24-91BF-98CAA742B25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n.wikipedia.org/wiki/Image:Sigmund_Freud-loc.jpg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-6480" y="96840"/>
            <a:ext cx="5578560" cy="1128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Photo of Sigmund Freud, 19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523880"/>
            <a:ext cx="1904760" cy="2629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Carl Jung"/>
          <p:cNvPicPr/>
          <p:nvPr/>
        </p:nvPicPr>
        <p:blipFill>
          <a:blip r:embed="rId4"/>
          <a:stretch/>
        </p:blipFill>
        <p:spPr>
          <a:xfrm>
            <a:off x="4572000" y="4724280"/>
            <a:ext cx="2133720" cy="1897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adler"/>
          <p:cNvPicPr/>
          <p:nvPr/>
        </p:nvPicPr>
        <p:blipFill>
          <a:blip r:embed="rId5"/>
          <a:stretch/>
        </p:blipFill>
        <p:spPr>
          <a:xfrm>
            <a:off x="6858000" y="4572000"/>
            <a:ext cx="1878120" cy="2133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horney"/>
          <p:cNvPicPr/>
          <p:nvPr/>
        </p:nvPicPr>
        <p:blipFill>
          <a:blip r:embed="rId6"/>
          <a:stretch/>
        </p:blipFill>
        <p:spPr>
          <a:xfrm>
            <a:off x="4800600" y="1600200"/>
            <a:ext cx="1673280" cy="26668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0"/>
          <p:cNvSpPr/>
          <p:nvPr/>
        </p:nvSpPr>
        <p:spPr>
          <a:xfrm>
            <a:off x="609480" y="464832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 agree with you on some things, Freud, but not all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Line 11"/>
          <p:cNvSpPr/>
          <p:nvPr/>
        </p:nvSpPr>
        <p:spPr>
          <a:xfrm flipV="1">
            <a:off x="2362320" y="2133720"/>
            <a:ext cx="53316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2895480" y="1447920"/>
            <a:ext cx="1524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4d4d6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d4d4d6"/>
                </a:solidFill>
                <a:latin typeface="Verdana"/>
              </a:rPr>
              <a:t>You fools, I am always right! I am the great Sigmund Freud!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Picture 2" descr="http://emilyagnes.tripod.com/sitebuildercontent/sitebuilderpictures/erik.gif"/>
          <p:cNvPicPr/>
          <p:nvPr/>
        </p:nvPicPr>
        <p:blipFill>
          <a:blip r:embed="rId7"/>
          <a:stretch/>
        </p:blipFill>
        <p:spPr>
          <a:xfrm>
            <a:off x="6934320" y="1406520"/>
            <a:ext cx="19047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Corbel"/>
              </a:rPr>
              <a:t>The personality structures of id, ego, supereg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Corbel"/>
              </a:rPr>
              <a:t>The importance of the unconscio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Corbel"/>
              </a:rPr>
              <a:t>The shaping of personality in childhoo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Corbel"/>
              </a:rPr>
              <a:t>The dynamics of anxiety and the defense mechanism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Corbel"/>
              </a:rPr>
              <a:t>More of an emphasis on the role of the conscious mind in interpreting experience and coping with the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Corbel"/>
              </a:rPr>
              <a:t>That sex and aggression are all-consuming motiv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-360" y="144792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Two levels of unconsciou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Personal and collectiv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rchetypes—common thought forms in all human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Modifies id, ego, superego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nstead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Persona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-A shell that grows around our inner self. </a:t>
            </a: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A “mask” 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s the image that we present to others.</a:t>
            </a: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 (like the poem!!!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Self—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Underlies persona and is who you really are, which can be quite different from person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Shadow—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Dark side of personality (Freud’s Id)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Introverts v Extroverts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a6378"/>
                </a:solidFill>
                <a:latin typeface="Corbe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Picture 5" descr="Carl Jung"/>
          <p:cNvPicPr/>
          <p:nvPr/>
        </p:nvPicPr>
        <p:blipFill>
          <a:blip r:embed="rId2"/>
          <a:stretch/>
        </p:blipFill>
        <p:spPr>
          <a:xfrm>
            <a:off x="6477120" y="2928960"/>
            <a:ext cx="26668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599840"/>
            <a:ext cx="601992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6378"/>
                </a:solidFill>
                <a:latin typeface="Corbel"/>
              </a:rPr>
              <a:t>Focused on </a:t>
            </a:r>
            <a:r>
              <a:rPr b="0" i="1" lang="en-US" sz="2800" spc="-1" strike="noStrike">
                <a:solidFill>
                  <a:srgbClr val="5a6378"/>
                </a:solidFill>
                <a:latin typeface="Corbel"/>
              </a:rPr>
              <a:t>compensation</a:t>
            </a:r>
            <a:r>
              <a:rPr b="0" lang="en-US" sz="2800" spc="-1" strike="noStrike">
                <a:solidFill>
                  <a:srgbClr val="5a6378"/>
                </a:solidFill>
                <a:latin typeface="Corbel"/>
              </a:rPr>
              <a:t> instead of conflict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6378"/>
                </a:solidFill>
                <a:latin typeface="Corbel"/>
              </a:rPr>
              <a:t>Believed we possess innate positive motives and goals for ourselve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6378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5a6378"/>
                </a:solidFill>
                <a:latin typeface="Corbel"/>
              </a:rPr>
              <a:t>Inferiority Complex”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6378"/>
                </a:solidFill>
                <a:latin typeface="Corbel"/>
              </a:rPr>
              <a:t>Overall, positive outlook on human personality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5" descr="adler"/>
          <p:cNvPicPr/>
          <p:nvPr/>
        </p:nvPicPr>
        <p:blipFill>
          <a:blip r:embed="rId3"/>
          <a:stretch/>
        </p:blipFill>
        <p:spPr>
          <a:xfrm>
            <a:off x="6477120" y="2514600"/>
            <a:ext cx="2520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2362320" y="1599840"/>
            <a:ext cx="678168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sagreed with Freud on several topics, especially sex and role of wome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re of an emphasis on social relationships and environ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tudies anxiety and its role in development of persona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eurotic tren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bmission, Aggression, Detachm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5" descr="horney"/>
          <p:cNvPicPr/>
          <p:nvPr/>
        </p:nvPicPr>
        <p:blipFill>
          <a:blip r:embed="rId3"/>
          <a:stretch/>
        </p:blipFill>
        <p:spPr>
          <a:xfrm>
            <a:off x="228600" y="1828800"/>
            <a:ext cx="2103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600200"/>
            <a:ext cx="5943600" cy="4952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greed that lifetime social factors are more important in determining adult personality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veloped psychosocial theor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ight life stages with a life crisis/social conflict in ea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lieves personality shapes and changes as life progresse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cket pages 15/16 will help us understand each stage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2" descr="http://emilyagnes.tripod.com/sitebuildercontent/sitebuilderpictures/erik.gif"/>
          <p:cNvPicPr/>
          <p:nvPr/>
        </p:nvPicPr>
        <p:blipFill>
          <a:blip r:embed="rId2"/>
          <a:stretch/>
        </p:blipFill>
        <p:spPr>
          <a:xfrm>
            <a:off x="6673680" y="2057400"/>
            <a:ext cx="2470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do you think of the psychosocial stages in comparison to the psychosexual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nk about the stage you are in right now (IDENTITY  V.  ROLE CONFUSION). Do you personally identify with this stage? How are you doing with the “crisis” it presents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Displaying longer than average reaction time to a stimulus word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Repeating the stimulus word back as a response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Failing to respond at all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Using expressive bodily reactions e.g. laughing, touching skin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Stammering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Continuing to respond to a previous word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Reacting meaninglessly e.g. with made up word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Reacting superficially with a word that sounds like the stimulus word (e.g. die-lie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Responding with more than one word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612720" indent="-49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Misunderstanding the stimulus as some other word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1:12:29Z</dcterms:created>
  <dc:creator> </dc:creator>
  <dc:description/>
  <dc:language>en-US</dc:language>
  <cp:lastModifiedBy>John Hampton</cp:lastModifiedBy>
  <dcterms:modified xsi:type="dcterms:W3CDTF">2012-04-03T12:20:51Z</dcterms:modified>
  <cp:revision>25</cp:revision>
  <dc:subject/>
  <dc:title>Neo-Freudians </dc:title>
</cp:coreProperties>
</file>